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E30C-89AE-4439-9EB9-924C54930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BA2A-6175-42EC-95F4-F1C2A41D13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Standards/Performance Indicators/Syllabus with Topics at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3694-7352-4651-999C-B3E48689A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7675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9520" y="4098240"/>
            <a:ext cx="7675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805B-FE60-427E-9123-4D8B0B2C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2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9520" y="409824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72520" y="409824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0587-2BDC-4FB7-A677-E2D92B334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760" y="182520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0360" y="182520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9520" y="409824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760" y="409824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0360" y="409824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368D-C9C3-4AB1-99CB-E114BE375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7024-A2A3-46C2-9B68-E70EBC75A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9520" y="1825200"/>
            <a:ext cx="76755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1825-AC01-4538-91B1-185668EC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7675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EBDB-2CBF-4E97-9017-AF740747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3745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2520" y="1825200"/>
            <a:ext cx="3745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0565-ABBB-4E93-82D1-C71A77D8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2F5F-A74E-4970-98FC-5A79A71F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DC24-92D3-4540-A385-B344E48E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72520" y="1825200"/>
            <a:ext cx="3745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9520" y="409824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7F44-1D83-42BE-B7FD-911B9525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9520" y="1825200"/>
            <a:ext cx="76755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4CE0-07C7-4C68-8FAA-B1F0C5A6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3745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2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72520" y="409824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2C5C-A64B-41CB-8743-38BB94FA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2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9520" y="4098240"/>
            <a:ext cx="7675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8B62-044D-48AE-AC00-2E7AB6E8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7675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9520" y="4098240"/>
            <a:ext cx="7675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55F9-6097-4053-8091-AE17A1E2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2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9520" y="409824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72520" y="409824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A5E5-B035-4494-8667-BAC7F7631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34760" y="182520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30360" y="182520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9520" y="409824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34760" y="409824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30360" y="409824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8EE7-5818-42DC-9037-A3CBD73C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7675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1522-514C-43DC-8435-3E35E62D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3745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72520" y="1825200"/>
            <a:ext cx="3745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5B3B-F84D-4A58-9545-3FBF2759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E27D-D4D9-4441-A623-19161EF5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3D31-CFB4-47B0-85CD-03FCE65D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2520" y="1825200"/>
            <a:ext cx="3745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9520" y="409824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A699-A824-42FF-BFCB-25826545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3745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2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72520" y="409824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EEDE-1FE7-4899-9C77-F3D4842E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2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9520" y="4098240"/>
            <a:ext cx="7675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D783-AFAD-40D5-86AC-59FA382F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9520" y="1825200"/>
            <a:ext cx="7675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9BA0-FCD1-4449-BD28-559FFDBB288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833400" y="78732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7827840" y="2743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9520" y="1825200"/>
            <a:ext cx="7675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0394-4962-4A77-9404-3B492421C511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91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5400" spc="-1" strike="noStrike">
                <a:solidFill>
                  <a:srgbClr val="88dff0"/>
                </a:solidFill>
                <a:latin typeface="Times New Roman"/>
              </a:rPr>
              <a:t>FLACS Regional Exams</a:t>
            </a:r>
            <a:br>
              <a:rPr sz="5400"/>
            </a:br>
            <a:r>
              <a:rPr b="1" lang="en-US" sz="5400" spc="-1" strike="noStrike">
                <a:solidFill>
                  <a:srgbClr val="88dff0"/>
                </a:solidFill>
                <a:latin typeface="Times New Roman"/>
              </a:rPr>
              <a:t>Checkpoints A &amp; B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2" name="Rectangle 4" descr=""/>
          <p:cNvPicPr/>
          <p:nvPr/>
        </p:nvPicPr>
        <p:blipFill>
          <a:blip r:embed="rId1"/>
          <a:stretch/>
        </p:blipFill>
        <p:spPr>
          <a:xfrm>
            <a:off x="2382840" y="4206960"/>
            <a:ext cx="6400800" cy="1815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id:image003.png@01CECB53.62CF7410"/>
          <p:cNvPicPr/>
          <p:nvPr/>
        </p:nvPicPr>
        <p:blipFill>
          <a:blip r:embed="rId2"/>
          <a:stretch/>
        </p:blipFill>
        <p:spPr>
          <a:xfrm>
            <a:off x="228600" y="3390840"/>
            <a:ext cx="32241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20520" y="-360"/>
            <a:ext cx="3200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88dff0"/>
                </a:solidFill>
                <a:latin typeface="Times New Roman"/>
              </a:rPr>
              <a:t>New Rubrics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88dff0"/>
                </a:solidFill>
                <a:latin typeface="Times New Roman"/>
              </a:rPr>
              <a:t>Checkpoint 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3460680" y="76320"/>
            <a:ext cx="5648400" cy="3881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3460680" y="3965400"/>
            <a:ext cx="5627880" cy="266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"/>
          <p:cNvPicPr/>
          <p:nvPr/>
        </p:nvPicPr>
        <p:blipFill>
          <a:blip r:embed="rId3"/>
          <a:srcRect l="0" t="0" r="49920" b="-14198"/>
          <a:stretch/>
        </p:blipFill>
        <p:spPr>
          <a:xfrm>
            <a:off x="374760" y="5573880"/>
            <a:ext cx="2819160" cy="533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"/>
          <p:cNvPicPr/>
          <p:nvPr/>
        </p:nvPicPr>
        <p:blipFill>
          <a:blip r:embed="rId4"/>
          <a:srcRect l="48769" t="0" r="0" b="-7485"/>
          <a:stretch/>
        </p:blipFill>
        <p:spPr>
          <a:xfrm>
            <a:off x="374760" y="6134040"/>
            <a:ext cx="2882880" cy="503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"/>
          <p:cNvPicPr/>
          <p:nvPr/>
        </p:nvPicPr>
        <p:blipFill>
          <a:blip r:embed="rId5"/>
          <a:stretch/>
        </p:blipFill>
        <p:spPr>
          <a:xfrm>
            <a:off x="304920" y="1523880"/>
            <a:ext cx="8082000" cy="2179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"/>
          <p:cNvPicPr/>
          <p:nvPr/>
        </p:nvPicPr>
        <p:blipFill>
          <a:blip r:embed="rId6"/>
          <a:srcRect l="13457" t="0" r="0" b="0"/>
          <a:stretch/>
        </p:blipFill>
        <p:spPr>
          <a:xfrm>
            <a:off x="304920" y="3827520"/>
            <a:ext cx="8102520" cy="14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tle 1"/>
          <p:cNvSpPr/>
          <p:nvPr/>
        </p:nvSpPr>
        <p:spPr>
          <a:xfrm>
            <a:off x="-20520" y="0"/>
            <a:ext cx="3200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500" spc="-1" strike="noStrike">
                <a:solidFill>
                  <a:srgbClr val="88dff0"/>
                </a:solidFill>
                <a:latin typeface="Times New Roman"/>
                <a:ea typeface="Arial"/>
              </a:rPr>
              <a:t>New Rubrics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88dff0"/>
                </a:solidFill>
                <a:latin typeface="Times New Roman"/>
                <a:ea typeface="Arial"/>
              </a:rPr>
              <a:t>Checkpoint B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2971800" y="76320"/>
            <a:ext cx="6145200" cy="4971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2971800" y="5048280"/>
            <a:ext cx="6172200" cy="1628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3"/>
          <a:srcRect l="0" t="0" r="49792" b="2234"/>
          <a:stretch/>
        </p:blipFill>
        <p:spPr>
          <a:xfrm>
            <a:off x="68400" y="5657760"/>
            <a:ext cx="2790720" cy="409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4"/>
          <a:srcRect l="49233" t="-18127" r="0" b="0"/>
          <a:stretch/>
        </p:blipFill>
        <p:spPr>
          <a:xfrm>
            <a:off x="68400" y="6091200"/>
            <a:ext cx="2857320" cy="495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"/>
          <p:cNvPicPr/>
          <p:nvPr/>
        </p:nvPicPr>
        <p:blipFill>
          <a:blip r:embed="rId5"/>
          <a:stretch/>
        </p:blipFill>
        <p:spPr>
          <a:xfrm>
            <a:off x="68400" y="3728880"/>
            <a:ext cx="8851680" cy="1295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"/>
          <p:cNvPicPr/>
          <p:nvPr/>
        </p:nvPicPr>
        <p:blipFill>
          <a:blip r:embed="rId6"/>
          <a:stretch/>
        </p:blipFill>
        <p:spPr>
          <a:xfrm>
            <a:off x="155520" y="1380960"/>
            <a:ext cx="876456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99840" y="2057040"/>
            <a:ext cx="60958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88dff0"/>
                </a:solidFill>
                <a:latin typeface="Times New Roman"/>
              </a:rPr>
              <a:t>Sample Test Item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66400" y="-766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88dff0"/>
                </a:solidFill>
                <a:latin typeface="Times New Roman"/>
                <a:ea typeface="Times New Roman"/>
              </a:rPr>
              <a:t>Checkpoint A Listening Part 2 C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971120" cy="57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277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88dff0"/>
                </a:solidFill>
                <a:latin typeface="Times New Roman"/>
                <a:ea typeface="Times New Roman"/>
              </a:rPr>
              <a:t>Read-to-Write Tasks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34" name="Text Placeholder 2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7394760" cy="48765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438120" y="277920"/>
            <a:ext cx="1359000" cy="1579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3"/>
          <a:stretch/>
        </p:blipFill>
        <p:spPr>
          <a:xfrm>
            <a:off x="6858000" y="4267080"/>
            <a:ext cx="150480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Title 2" descr=""/>
          <p:cNvPicPr/>
          <p:nvPr/>
        </p:nvPicPr>
        <p:blipFill>
          <a:blip r:embed="rId1"/>
          <a:stretch/>
        </p:blipFill>
        <p:spPr>
          <a:xfrm>
            <a:off x="231840" y="1522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138" name="Content Placeholder 3" descr=""/>
          <p:cNvPicPr/>
          <p:nvPr/>
        </p:nvPicPr>
        <p:blipFill>
          <a:blip r:embed="rId2"/>
          <a:stretch/>
        </p:blipFill>
        <p:spPr>
          <a:xfrm>
            <a:off x="0" y="1330200"/>
            <a:ext cx="4594320" cy="4881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"/>
          <p:cNvPicPr/>
          <p:nvPr/>
        </p:nvPicPr>
        <p:blipFill>
          <a:blip r:embed="rId3"/>
          <a:stretch/>
        </p:blipFill>
        <p:spPr>
          <a:xfrm>
            <a:off x="4594320" y="1336680"/>
            <a:ext cx="464796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498680" y="49320"/>
            <a:ext cx="6156360" cy="5852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1023840" y="5916600"/>
            <a:ext cx="71056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2"/>
          <p:cNvSpPr/>
          <p:nvPr/>
        </p:nvSpPr>
        <p:spPr>
          <a:xfrm>
            <a:off x="222120" y="914400"/>
            <a:ext cx="874584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behalf of FLACS, we would like to thank you for your participation in this most important process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"/>
          <p:cNvSpPr/>
          <p:nvPr/>
        </p:nvSpPr>
        <p:spPr>
          <a:xfrm>
            <a:off x="3098160" y="4376880"/>
            <a:ext cx="312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bbd1"/>
                </a:solidFill>
                <a:latin typeface="Times New Roman"/>
                <a:ea typeface="Times New Roman"/>
              </a:rPr>
              <a:t>http://www.flacs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3" descr="cid:image003.png@01CECB53.62CF7410"/>
          <p:cNvPicPr/>
          <p:nvPr/>
        </p:nvPicPr>
        <p:blipFill>
          <a:blip r:embed="rId1"/>
          <a:stretch/>
        </p:blipFill>
        <p:spPr>
          <a:xfrm>
            <a:off x="3352680" y="2243160"/>
            <a:ext cx="228600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4" descr=""/>
          <p:cNvPicPr/>
          <p:nvPr/>
        </p:nvPicPr>
        <p:blipFill>
          <a:blip r:embed="rId1"/>
          <a:stretch/>
        </p:blipFill>
        <p:spPr>
          <a:xfrm>
            <a:off x="689040" y="-73080"/>
            <a:ext cx="7692840" cy="5486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id:image003.png@01CECB53.62CF7410"/>
          <p:cNvPicPr/>
          <p:nvPr/>
        </p:nvPicPr>
        <p:blipFill>
          <a:blip r:embed="rId2"/>
          <a:stretch/>
        </p:blipFill>
        <p:spPr>
          <a:xfrm>
            <a:off x="5715000" y="1371600"/>
            <a:ext cx="31021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2365200" y="-208080"/>
            <a:ext cx="7888320" cy="1330560"/>
          </a:xfrm>
          <a:prstGeom prst="rect">
            <a:avLst/>
          </a:prstGeom>
          <a:ln w="0">
            <a:noFill/>
          </a:ln>
        </p:spPr>
      </p:pic>
      <p:pic>
        <p:nvPicPr>
          <p:cNvPr id="97" name="Content Placeholder 2" descr=""/>
          <p:cNvPicPr/>
          <p:nvPr/>
        </p:nvPicPr>
        <p:blipFill>
          <a:blip r:embed="rId2"/>
          <a:stretch/>
        </p:blipFill>
        <p:spPr>
          <a:xfrm>
            <a:off x="-328680" y="755640"/>
            <a:ext cx="7680240" cy="43527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685800" y="61722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flacs.org/consortium/docs/flacs_faq_2016_2017_consortium.pd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3"/>
          <a:srcRect l="10763" t="11462" r="12517" b="43750"/>
          <a:stretch/>
        </p:blipFill>
        <p:spPr>
          <a:xfrm>
            <a:off x="3511440" y="779400"/>
            <a:ext cx="5594400" cy="3276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4"/>
          <a:stretch/>
        </p:blipFill>
        <p:spPr>
          <a:xfrm>
            <a:off x="3511440" y="779400"/>
            <a:ext cx="5632560" cy="4924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5"/>
          <a:stretch/>
        </p:blipFill>
        <p:spPr>
          <a:xfrm>
            <a:off x="3511440" y="750960"/>
            <a:ext cx="561816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628560" y="365040"/>
            <a:ext cx="7886880" cy="1324080"/>
          </a:xfrm>
          <a:prstGeom prst="rect">
            <a:avLst/>
          </a:prstGeom>
          <a:ln w="0">
            <a:noFill/>
          </a:ln>
        </p:spPr>
      </p:pic>
      <p:pic>
        <p:nvPicPr>
          <p:cNvPr id="103" name="Content Placeholder 2" descr=""/>
          <p:cNvPicPr/>
          <p:nvPr/>
        </p:nvPicPr>
        <p:blipFill>
          <a:blip r:embed="rId2"/>
          <a:stretch/>
        </p:blipFill>
        <p:spPr>
          <a:xfrm>
            <a:off x="841320" y="1822320"/>
            <a:ext cx="767412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5400" y="0"/>
            <a:ext cx="7867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rbel"/>
                <a:ea typeface="Times New Roman"/>
              </a:rPr>
              <a:t>FLACS REGIONAL EXAMS  Forma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05" name="Content Placeholder 4" descr=""/>
          <p:cNvPicPr/>
          <p:nvPr/>
        </p:nvPicPr>
        <p:blipFill>
          <a:blip r:embed="rId1"/>
          <a:stretch/>
        </p:blipFill>
        <p:spPr>
          <a:xfrm>
            <a:off x="689040" y="2060640"/>
            <a:ext cx="3809880" cy="4187880"/>
          </a:xfrm>
          <a:prstGeom prst="rect">
            <a:avLst/>
          </a:prstGeom>
          <a:ln w="0">
            <a:noFill/>
          </a:ln>
        </p:spPr>
      </p:pic>
      <p:pic>
        <p:nvPicPr>
          <p:cNvPr id="106" name="Content Placeholder 5" descr=""/>
          <p:cNvPicPr/>
          <p:nvPr/>
        </p:nvPicPr>
        <p:blipFill>
          <a:blip r:embed="rId2"/>
          <a:stretch/>
        </p:blipFill>
        <p:spPr>
          <a:xfrm>
            <a:off x="4863960" y="2060640"/>
            <a:ext cx="4054680" cy="4035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cid:image003.png@01CECB53.62CF7410"/>
          <p:cNvPicPr/>
          <p:nvPr/>
        </p:nvPicPr>
        <p:blipFill>
          <a:blip r:embed="rId3"/>
          <a:stretch/>
        </p:blipFill>
        <p:spPr>
          <a:xfrm>
            <a:off x="304920" y="152280"/>
            <a:ext cx="10033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34040" y="456840"/>
            <a:ext cx="281952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88dff0"/>
                </a:solidFill>
                <a:latin typeface="Times New Roman"/>
                <a:ea typeface="Times New Roman"/>
              </a:rPr>
              <a:t>History of Recent Changes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7800" y="457200"/>
            <a:ext cx="891540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2012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point A 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writing word count to 50 word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points A &amp; B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d the optional recorded Part 2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2013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point A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minated the informal speaking (Part 1a)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Reduced the speaking tasks from 4 to 3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points A &amp; B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rnized and updated the speaking task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2015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point A; Part 1 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aking scoring (restored 0-1-2 grading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points A &amp; B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Reduced number of required listening items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points A &amp; B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tion of the mandatory Read to Write (Part 4)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Common Core expository / persuasive tasks, authentic reading sources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New rubrics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2016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point A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mination of picture strips (Part 2C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point B 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mination of picture writing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tro of multiple Qs based on a single listening passage w visual prompt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tudents encouraged to take notes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Questions aligned with the Common Core Learning Standards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16776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88dff0"/>
                </a:solidFill>
                <a:latin typeface="Times New Roman"/>
                <a:ea typeface="Times New Roman"/>
              </a:rPr>
              <a:t>Changes  - What’s new in 2017?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11" name="Content Placeholder 7" descr=""/>
          <p:cNvPicPr/>
          <p:nvPr/>
        </p:nvPicPr>
        <p:blipFill>
          <a:blip r:embed="rId1"/>
          <a:stretch/>
        </p:blipFill>
        <p:spPr>
          <a:xfrm>
            <a:off x="1981080" y="1603440"/>
            <a:ext cx="6858000" cy="2743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Users\jennifer.nesfield\AppData\Local\Microsoft\Windows\Temporary Internet Files\Content.IE5\Y0V5HVU9\listen-clipart-Listen[1].jpg"/>
          <p:cNvPicPr/>
          <p:nvPr/>
        </p:nvPicPr>
        <p:blipFill>
          <a:blip r:embed="rId2"/>
          <a:stretch/>
        </p:blipFill>
        <p:spPr>
          <a:xfrm>
            <a:off x="304920" y="22096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88dff0"/>
                </a:solidFill>
                <a:latin typeface="Times New Roman"/>
              </a:rPr>
              <a:t>Standards/Conten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14" name="Rectangle 3" descr=""/>
          <p:cNvPicPr/>
          <p:nvPr/>
        </p:nvPicPr>
        <p:blipFill>
          <a:blip r:embed="rId1"/>
          <a:stretch/>
        </p:blipFill>
        <p:spPr>
          <a:xfrm>
            <a:off x="152280" y="993600"/>
            <a:ext cx="883944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0" y="425520"/>
            <a:ext cx="9144000" cy="60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02:09:49Z</dcterms:created>
  <dc:creator>emarga</dc:creator>
  <dc:description/>
  <dc:language>en-US</dc:language>
  <cp:lastModifiedBy>Melanie Thomas</cp:lastModifiedBy>
  <cp:lastPrinted>2016-10-05T18:38:37Z</cp:lastPrinted>
  <dcterms:modified xsi:type="dcterms:W3CDTF">2017-03-06T01:44:37Z</dcterms:modified>
  <cp:revision>313</cp:revision>
  <dc:subject/>
  <dc:title>Description of FLACS World Language Regional Examination Item Writing Sections:  Checkpoint A Exam  Part 2a  Listening Comprehension:  The passage is in the target language; the question is in English.  One multiple-choice question for each passage. Part 2b  Listening Comprehension:  The passage is in the target language; the question is also in the target language.  One multiple-choice question for each passage Part 2c  Listening Comprehension:  The passage is in the target language; the question is in English with four pictures as the choices.  One multiple-choice question for each passage. Part 3a  Reading Comprehension:  Short reading passages or authentic document of similar size; one multiple-choice question for each selection.  The questions are in English.  Please send the original(s) rather than copies. Part 3b  Reading Comprehension:  Short reading passages or authentic document of similar size; one multiple-choice question for each selection.  The questions are in the target language.  Please send the original(s) rather than copies.</dc:title>
</cp:coreProperties>
</file>